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9B2-BA41-4638-956E-F0D6B9C6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DC6-B4D2-4345-8262-D2E86A13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EED-1842-4405-BEC8-92C3DC65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B48-A863-45BA-B3F6-5585741C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C13C-7535-44D5-BA2B-D673A242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2707-3101-41EF-B1CE-90C4F369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2C3-211C-4C37-B1A2-1B9FE99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D18-F78D-4AD6-BB0E-81DB147D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D43-C76A-48CA-8D7F-85A840AE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D31-CB53-4A3D-BA0A-26E8FD1A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3C3-B0A3-4C2B-B0DA-E543F96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ACF-FC11-4A55-9814-3EF667C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90EE-1C51-4CB2-BB5B-39EB27E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345-DB1D-493A-AEFA-1A689A0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FBB-C962-403B-8A39-7D527E2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6C8B-8A77-43AE-8702-E188BE6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8FA7-56E7-4BD9-8297-A940ABFD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E4D0-D6E6-4332-8E25-E77AD8E1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C6A6-ADA1-4B81-A081-20BBE75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861C-671F-4719-A87F-F2114848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7BEB-70A9-4301-BCCE-18F1EC99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00F2-AFDA-4D5D-A4BA-0BD7A042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623-4933-4E75-9C78-60487A7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DD41-3EBF-4D43-A289-CEFB4E6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8B9D-DE86-432C-9C2A-5DE8843E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BDA3-5438-4EED-B44D-573520D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B3CB-D2E9-4406-AD43-7143A82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9196-2F60-46E4-9969-6D4E1926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6C87-9D57-48F6-B148-5109F24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140A-E089-4258-AFA6-26334828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6131-578C-4F8E-B72C-23D4BC8E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EF56-0118-4610-BF4B-F4DD0F2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9866-594D-4F4E-8B13-248396D3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72B-626B-4D84-824E-15ADC8E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A57B-9C98-4A8E-BEDB-61DA98D4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4C10-5EFF-4877-8F14-5BB4406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CCDA-429C-4FA3-AD66-D8AE50C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BD79-9FC8-4CF9-9F3E-A01B15CC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2D87-AFD9-4318-AB5F-E1EA2C5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ECCE-BDE7-4CCB-B988-BEE79320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D5B5-7F44-4EC1-AC1B-D4D46848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1EBB-BD04-46AF-9CA0-C54AF919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FEB2-1B09-4FAA-9295-7E82A218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19E-4379-4548-B4BC-17909B0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594-46F7-4D1A-81E8-CBD10AE3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F47-85FC-4B00-A0CF-5F7CF4C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EF0-BA56-4FE4-80F0-C5FB7B7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3FA-5EFA-45F9-A870-9289584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43C-5A7A-45F3-99AB-8920ACCAC5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BDC8-E3F5-49F3-BB01-BDCC538398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3802-C571-4872-911F-AB5F69E11D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036-0C4B-40AE-BDFC-CD875FD952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06520"/>
            <a:ext cx="7785000" cy="116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114800" y="198108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the WATER CYCLE there are four part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PRECIPITATION into INFILTRATI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it all EVAPORTATES becoming CONDENSATION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the WATER CYCLE starts over again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water cycle for kids. In summary, the Water Cycle"/>
          <p:cNvPicPr/>
          <p:nvPr/>
        </p:nvPicPr>
        <p:blipFill>
          <a:blip r:embed="rId2"/>
          <a:stretch/>
        </p:blipFill>
        <p:spPr>
          <a:xfrm>
            <a:off x="457200" y="2286000"/>
            <a:ext cx="333360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ItsyBitsySpider.mp3" descr=""/>
          <p:cNvPicPr/>
          <p:nvPr/>
        </p:nvPicPr>
        <p:blipFill>
          <a:blip r:embed="rId3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480060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tsy Bitsy Spider  (with Lyrics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8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0:21:15Z</dcterms:created>
  <dc:creator> </dc:creator>
  <dc:description/>
  <dc:language>en-US</dc:language>
  <cp:lastModifiedBy> </cp:lastModifiedBy>
  <dcterms:modified xsi:type="dcterms:W3CDTF">2012-02-20T20:45:09Z</dcterms:modified>
  <cp:revision>4</cp:revision>
  <dc:subject/>
  <dc:title>The Water Cycle </dc:title>
</cp:coreProperties>
</file>